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126-D700-4E39-B53C-C64EDFBE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739-5201-4658-BEC3-F7180B85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233-B831-4AE0-8B6F-BD631BC7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504-3EB3-4E75-8AA0-4B85740D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14B9-3BC3-47C6-8B6A-AD31D109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FC4C-B98C-489F-82C7-42C29784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A1C6-C871-4F8E-ABB4-26764884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7EDC-9DE4-4BB1-B83F-E2A59B61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1084-892D-438A-958E-13EABB71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9278-03C4-4118-A334-8B64E480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D487-34EA-4C49-8269-335E93F4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BE7-4EBB-4DBF-A691-299B43EE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4027-A575-4604-A54A-8C752182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1589-7434-46F8-BB2B-2358090A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756E-2336-448E-8E27-5F6C6DF1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37AB-9894-4A36-9614-749CB6B7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76A4-A16C-4098-A21A-96239716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515E-154D-45D8-918A-66609861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34F38-5D06-4B89-939B-EEE504E3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6532D-034D-4A70-B211-F2DC24F6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E2F09-2E15-4A6E-B139-877EAC7C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34E47-F2B1-460F-8A5F-B321FA3B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A29-789A-48BB-B0F0-D531B825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D4760-57A4-44FF-BF99-FBC6080A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DA62-7A53-4E91-A34D-842C47A9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A585-07F9-4896-8A47-1605888E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04D9F-A90D-455D-95E3-D0EC81F0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67D1A-1363-4CBC-9FA2-357250AD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7A646-E88C-4A09-BFF8-114942DE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7218-8340-4B76-B202-E41C8B2B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331-1D7A-48BF-8A14-8C69E142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04C-659F-49F0-A24D-C710D798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AC1-5172-4E4B-8568-508A1A11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7CA-DA1E-4D37-BC18-C6D510ED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278-C08A-42E3-AD4D-F4792A61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617-75FA-4AC1-BF33-86A49B41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261B-2169-4199-9928-CB8DD1F633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42BF-48A1-4252-BA55-D41D6072B4C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7D48-0E83-4DD8-A971-C9563E0CA2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ODUŁ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9280" y="4365720"/>
            <a:ext cx="820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98989"/>
                </a:solidFill>
                <a:latin typeface="Calibri"/>
              </a:rPr>
              <a:t>KOMPETENCJE KLUCZOWE W PROCESIE EDUKA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98989"/>
                </a:solidFill>
                <a:latin typeface="Calibri"/>
              </a:rPr>
              <a:t>cz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465264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CZYM JEST METODA WORLD C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62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Po c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8" descr="objetivo-meta-seo1"/>
          <p:cNvPicPr/>
          <p:nvPr/>
        </p:nvPicPr>
        <p:blipFill>
          <a:blip r:embed="rId1"/>
          <a:stretch/>
        </p:blipFill>
        <p:spPr>
          <a:xfrm>
            <a:off x="6588000" y="4149720"/>
            <a:ext cx="1862280" cy="15289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539640" y="1989000"/>
            <a:ext cx="777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Dawać pole do współdecyd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pracowywać pomysły i rozwią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Skorzystać z „mądrości wielu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Kroki</a:t>
            </a:r>
            <a:r>
              <a:rPr b="1" lang="pl-PL" sz="3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5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dentyfikacja obsza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5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odział tematów (stolik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5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aca przy stolikach z moderatorem (3 x 5 minu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5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odsumowanie i zebranie wniosków (sesja plenar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5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twarcie pola do działani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footprints"/>
          <p:cNvPicPr/>
          <p:nvPr/>
        </p:nvPicPr>
        <p:blipFill>
          <a:blip r:embed="rId1"/>
          <a:stretch/>
        </p:blipFill>
        <p:spPr>
          <a:xfrm>
            <a:off x="6516720" y="981000"/>
            <a:ext cx="2106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18:39:12Z</dcterms:created>
  <dc:creator>Bartek</dc:creator>
  <dc:description/>
  <dc:language>en-US</dc:language>
  <cp:lastModifiedBy>ORE</cp:lastModifiedBy>
  <cp:lastPrinted>2014-05-13T07:39:52Z</cp:lastPrinted>
  <dcterms:modified xsi:type="dcterms:W3CDTF">2017-04-26T20:47:45Z</dcterms:modified>
  <cp:revision>530</cp:revision>
  <dc:subject/>
  <dc:title>Slajd 1</dc:title>
</cp:coreProperties>
</file>